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14.png" ContentType="image/png"/>
  <Override PartName="/ppt/media/image8.wmf" ContentType="image/x-wmf"/>
  <Override PartName="/ppt/media/image2.gif" ContentType="image/gif"/>
  <Override PartName="/ppt/media/image1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005-7AA6-4149-ADE3-43356DE9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C7A-EFF9-4F66-9BEC-FBAE357D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11D-42B6-41E2-A300-99F223A5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B3E-F8D1-496F-AF28-B26E04DB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9A2-8494-451A-950B-44002020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7E5-445E-4216-BA50-82E00AFE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FAF-A7C7-4B2E-90D5-8F865592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24D-1E03-45A7-906A-FDE76C9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834-3996-4301-9884-AAAC5372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E5D-797F-4CE5-A6EF-E0C83E2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873-7061-4014-9C27-BAF370FD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27C-7AEB-4E4A-B3D0-C57F176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ACF1-8DF3-4CFD-8880-23CDDA9B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hksuk04.wav" TargetMode="External"/><Relationship Id="rId2" Type="http://schemas.microsoft.com/office/2007/relationships/media" Target="file:///tmp/home/.config/libreoffice/4/user/gallery/shksuk04.wav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Definition; to stare at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Synonym: star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Antonym: ign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Base Word: gl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Inflection: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Syllable: glare-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43760" y="451944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Definition: to tell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Base Word: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nonyms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llable: stor.y. tel.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ntonym: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9240" y="2066760"/>
            <a:ext cx="1508040" cy="18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49840" y="432108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Definition: to us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Base Word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Inflection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Synonym: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Syllables: bor.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Antonym: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282888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Definition Exited an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nonym: really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llables: Ea.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ntonym: sad Dep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18160" y="3043080"/>
            <a:ext cx="1870200" cy="1990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ition: to talk rapidly and foolis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se Word: Ch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flection: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ynony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yllable: Chat.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tonym: m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46880" y="2244600"/>
            <a:ext cx="2012760" cy="145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99080" y="4125960"/>
            <a:ext cx="1908360" cy="1958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75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Definition: a Spanish word for 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Base 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Infl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Synonym: thank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Syllables: gra.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Antonym: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51640" y="2562120"/>
            <a:ext cx="1801800" cy="81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9720" y="4314960"/>
            <a:ext cx="192708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Definition: a Spanish word for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Base Word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Inflection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Syllables: li.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Antonym: Magazine news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229440" y="2685960"/>
            <a:ext cx="6476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72280" y="4038480"/>
            <a:ext cx="1423800" cy="1390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Definition: A Spanish word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Synonyms: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Antonyms: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Syllable: ad.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Base Word: 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Inflection: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43720" y="2467080"/>
            <a:ext cx="1819080" cy="100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Definition: A part of a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Synonyms: a place to 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Antonyms: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Syllable: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00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6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11T22:41:44Z</dcterms:modified>
  <cp:revision>10</cp:revision>
  <dc:subject/>
  <dc:title>PowerPoint Presentation</dc:title>
</cp:coreProperties>
</file>